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4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9.png" ContentType="image/png"/>
  <Override PartName="/ppt/media/image10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wmf"/><Relationship Id="rId5" Type="http://schemas.openxmlformats.org/officeDocument/2006/relationships/image" Target="../media/image10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除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206280" y="2009880"/>
            <a:ext cx="767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7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总量可用单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表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的分数除法问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2"/>
          <a:stretch/>
        </p:blipFill>
        <p:spPr>
          <a:xfrm>
            <a:off x="684360" y="9525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231840" y="5440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84560" y="49417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72560" y="350028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895320" y="1484280"/>
            <a:ext cx="7985160" cy="287820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8"/>
          <p:cNvSpPr/>
          <p:nvPr/>
        </p:nvSpPr>
        <p:spPr>
          <a:xfrm>
            <a:off x="826920" y="1628640"/>
            <a:ext cx="79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30600" y="4149720"/>
            <a:ext cx="409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果两辆车一起运，多少次能运完这批货物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052720" y="4581360"/>
            <a:ext cx="3240000" cy="1530360"/>
            <a:chOff x="2052720" y="4581360"/>
            <a:chExt cx="3240000" cy="1530360"/>
          </a:xfrm>
        </p:grpSpPr>
        <p:sp>
          <p:nvSpPr>
            <p:cNvPr id="398" name="Text Box 71"/>
            <p:cNvSpPr/>
            <p:nvPr/>
          </p:nvSpPr>
          <p:spPr>
            <a:xfrm>
              <a:off x="2052720" y="4744800"/>
              <a:ext cx="324000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＋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次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3059280" y="4584600"/>
              <a:ext cx="511200" cy="778680"/>
              <a:chOff x="3059280" y="4584600"/>
              <a:chExt cx="511200" cy="778680"/>
            </a:xfrm>
          </p:grpSpPr>
          <p:sp>
            <p:nvSpPr>
              <p:cNvPr id="400" name=""/>
              <p:cNvSpPr/>
              <p:nvPr/>
            </p:nvSpPr>
            <p:spPr>
              <a:xfrm>
                <a:off x="3065760" y="49402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059280" y="45846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103560" y="500364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538800" y="4581360"/>
              <a:ext cx="510480" cy="778680"/>
              <a:chOff x="3538800" y="4581360"/>
              <a:chExt cx="510480" cy="778680"/>
            </a:xfrm>
          </p:grpSpPr>
          <p:sp>
            <p:nvSpPr>
              <p:cNvPr id="404" name=""/>
              <p:cNvSpPr/>
              <p:nvPr/>
            </p:nvSpPr>
            <p:spPr>
              <a:xfrm>
                <a:off x="3544920" y="49370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8800" y="458136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582720" y="500040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772000" y="5084640"/>
              <a:ext cx="511200" cy="778680"/>
              <a:chOff x="2772000" y="5084640"/>
              <a:chExt cx="511200" cy="778680"/>
            </a:xfrm>
          </p:grpSpPr>
          <p:sp>
            <p:nvSpPr>
              <p:cNvPr id="408" name=""/>
              <p:cNvSpPr/>
              <p:nvPr/>
            </p:nvSpPr>
            <p:spPr>
              <a:xfrm>
                <a:off x="2778480" y="5440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72000" y="5084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816280" y="550368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5364000" y="2708280"/>
            <a:ext cx="2965680" cy="195732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1187280" y="3286080"/>
            <a:ext cx="3240000" cy="1530360"/>
            <a:chOff x="1187280" y="3286080"/>
            <a:chExt cx="3240000" cy="1530360"/>
          </a:xfrm>
        </p:grpSpPr>
        <p:sp>
          <p:nvSpPr>
            <p:cNvPr id="415" name="Text Box 71"/>
            <p:cNvSpPr/>
            <p:nvPr/>
          </p:nvSpPr>
          <p:spPr>
            <a:xfrm>
              <a:off x="1187280" y="3449520"/>
              <a:ext cx="324000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＋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天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155680" y="3286080"/>
              <a:ext cx="504720" cy="778680"/>
              <a:chOff x="2155680" y="3286080"/>
              <a:chExt cx="504720" cy="778680"/>
            </a:xfrm>
          </p:grpSpPr>
          <p:sp>
            <p:nvSpPr>
              <p:cNvPr id="417" name=""/>
              <p:cNvSpPr/>
              <p:nvPr/>
            </p:nvSpPr>
            <p:spPr>
              <a:xfrm>
                <a:off x="2155680" y="36417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244600" y="3286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222280" y="3705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2822400" y="3292560"/>
              <a:ext cx="504720" cy="778320"/>
              <a:chOff x="2822400" y="3292560"/>
              <a:chExt cx="504720" cy="778320"/>
            </a:xfrm>
          </p:grpSpPr>
          <p:sp>
            <p:nvSpPr>
              <p:cNvPr id="421" name=""/>
              <p:cNvSpPr/>
              <p:nvPr/>
            </p:nvSpPr>
            <p:spPr>
              <a:xfrm>
                <a:off x="2822400" y="36478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911320" y="3292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889000" y="3711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1884240" y="3809880"/>
              <a:ext cx="504720" cy="778680"/>
              <a:chOff x="1884240" y="3809880"/>
              <a:chExt cx="504720" cy="778680"/>
            </a:xfrm>
          </p:grpSpPr>
          <p:sp>
            <p:nvSpPr>
              <p:cNvPr id="425" name=""/>
              <p:cNvSpPr/>
              <p:nvPr/>
            </p:nvSpPr>
            <p:spPr>
              <a:xfrm>
                <a:off x="1884240" y="41655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973160" y="38098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950840" y="42289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828720" y="1444680"/>
            <a:ext cx="8136000" cy="1321560"/>
            <a:chOff x="828720" y="1444680"/>
            <a:chExt cx="8136000" cy="1321560"/>
          </a:xfrm>
        </p:grpSpPr>
        <p:sp>
          <p:nvSpPr>
            <p:cNvPr id="429" name="Text Box 45"/>
            <p:cNvSpPr/>
            <p:nvPr/>
          </p:nvSpPr>
          <p:spPr>
            <a:xfrm>
              <a:off x="828720" y="1627200"/>
              <a:ext cx="8136000" cy="89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挖一条水渠，王伯伯每天挖整条水渠的    ，李叔叔每天挖整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水渠的   。两人合作，几天能挖完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585040" y="1444680"/>
              <a:ext cx="504720" cy="778680"/>
              <a:chOff x="5585040" y="1444680"/>
              <a:chExt cx="504720" cy="778680"/>
            </a:xfrm>
          </p:grpSpPr>
          <p:sp>
            <p:nvSpPr>
              <p:cNvPr id="431" name=""/>
              <p:cNvSpPr/>
              <p:nvPr/>
            </p:nvSpPr>
            <p:spPr>
              <a:xfrm>
                <a:off x="5585040" y="18003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73960" y="14446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51640" y="1863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908360" y="1987560"/>
              <a:ext cx="504720" cy="778680"/>
              <a:chOff x="1908360" y="1987560"/>
              <a:chExt cx="504720" cy="778680"/>
            </a:xfrm>
          </p:grpSpPr>
          <p:sp>
            <p:nvSpPr>
              <p:cNvPr id="435" name=""/>
              <p:cNvSpPr/>
              <p:nvPr/>
            </p:nvSpPr>
            <p:spPr>
              <a:xfrm>
                <a:off x="1908360" y="23432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97280" y="1987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74960" y="2406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"/>
          <p:cNvSpPr/>
          <p:nvPr/>
        </p:nvSpPr>
        <p:spPr>
          <a:xfrm>
            <a:off x="1104840" y="2362320"/>
            <a:ext cx="83631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九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阅读与理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4"/>
          <p:cNvSpPr/>
          <p:nvPr/>
        </p:nvSpPr>
        <p:spPr>
          <a:xfrm>
            <a:off x="108000" y="4525920"/>
            <a:ext cx="100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6"/>
          <p:cNvSpPr/>
          <p:nvPr/>
        </p:nvSpPr>
        <p:spPr>
          <a:xfrm>
            <a:off x="900000" y="4564080"/>
            <a:ext cx="3362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从题目中你知道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8371080" cy="62802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6"/>
          <p:cNvSpPr/>
          <p:nvPr/>
        </p:nvSpPr>
        <p:spPr>
          <a:xfrm>
            <a:off x="887400" y="4975200"/>
            <a:ext cx="8256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要解决“两队合修，多少天修完？”这个问题，需要知道哪些信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这条路的长度“工作总量”；两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天各修的长度 “工作效率”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6"/>
          <p:cNvSpPr/>
          <p:nvPr/>
        </p:nvSpPr>
        <p:spPr>
          <a:xfrm>
            <a:off x="884160" y="5775480"/>
            <a:ext cx="792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知道了这两个信息，这个问题可以怎样解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这条路的长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一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修的长度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二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修的长度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505240" y="2014560"/>
            <a:ext cx="4514400" cy="2527920"/>
            <a:chOff x="2505240" y="2014560"/>
            <a:chExt cx="4514400" cy="252792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2505240" y="2014560"/>
              <a:ext cx="4514400" cy="21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906640" y="4119480"/>
              <a:ext cx="3949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如果两队合修，多少天能修完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31840" y="5440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7840" y="5656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5"/>
          <p:cNvSpPr/>
          <p:nvPr/>
        </p:nvSpPr>
        <p:spPr>
          <a:xfrm>
            <a:off x="250920" y="4556160"/>
            <a:ext cx="144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6"/>
          <p:cNvSpPr/>
          <p:nvPr/>
        </p:nvSpPr>
        <p:spPr>
          <a:xfrm>
            <a:off x="965160" y="4568760"/>
            <a:ext cx="756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需要的这两个信息题目中都没有给，怎么办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36"/>
          <p:cNvSpPr/>
          <p:nvPr/>
        </p:nvSpPr>
        <p:spPr>
          <a:xfrm>
            <a:off x="958680" y="5002200"/>
            <a:ext cx="7891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能不能先假设出这条路的长度，再计算呢？可以怎样假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假设这条路的长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假设这条路的长度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结合学生的假设，可以随机使用数据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36"/>
          <p:cNvSpPr/>
          <p:nvPr/>
        </p:nvSpPr>
        <p:spPr>
          <a:xfrm>
            <a:off x="1000080" y="6181560"/>
            <a:ext cx="578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你假设的这条路的长度，请你列式计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505240" y="2014560"/>
            <a:ext cx="4514400" cy="2527920"/>
            <a:chOff x="2505240" y="2014560"/>
            <a:chExt cx="4514400" cy="25279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2505240" y="2014560"/>
              <a:ext cx="4514400" cy="218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2906640" y="4119480"/>
              <a:ext cx="3949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如果两队合修，多少天能修完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1840" y="5440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7840" y="5656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35"/>
          <p:cNvSpPr/>
          <p:nvPr/>
        </p:nvSpPr>
        <p:spPr>
          <a:xfrm>
            <a:off x="-36360" y="4159080"/>
            <a:ext cx="176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6"/>
          <p:cNvSpPr/>
          <p:nvPr/>
        </p:nvSpPr>
        <p:spPr>
          <a:xfrm>
            <a:off x="611280" y="4195800"/>
            <a:ext cx="4174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÷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求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一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修的长度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÷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求的又是什么 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二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天修的长度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5"/>
          <p:cNvSpPr/>
          <p:nvPr/>
        </p:nvSpPr>
        <p:spPr>
          <a:xfrm>
            <a:off x="-34920" y="2082960"/>
            <a:ext cx="1150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5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6"/>
          <p:cNvSpPr/>
          <p:nvPr/>
        </p:nvSpPr>
        <p:spPr>
          <a:xfrm>
            <a:off x="611280" y="5792760"/>
            <a:ext cx="374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求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两队合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天的长度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1"/>
          <p:cNvSpPr/>
          <p:nvPr/>
        </p:nvSpPr>
        <p:spPr>
          <a:xfrm>
            <a:off x="6407280" y="220356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02"/>
          <p:cNvSpPr/>
          <p:nvPr/>
        </p:nvSpPr>
        <p:spPr>
          <a:xfrm rot="16200000">
            <a:off x="6730920" y="477360"/>
            <a:ext cx="144360" cy="4319640"/>
          </a:xfrm>
          <a:custGeom>
            <a:avLst/>
            <a:gdLst>
              <a:gd name="textAreaLeft" fmla="*/ 0 w 144360"/>
              <a:gd name="textAreaRight" fmla="*/ 52200 w 144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"/>
          <p:cNvSpPr/>
          <p:nvPr/>
        </p:nvSpPr>
        <p:spPr>
          <a:xfrm>
            <a:off x="4643280" y="3216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5"/>
          <p:cNvSpPr/>
          <p:nvPr/>
        </p:nvSpPr>
        <p:spPr>
          <a:xfrm>
            <a:off x="5003640" y="322092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6"/>
          <p:cNvSpPr/>
          <p:nvPr/>
        </p:nvSpPr>
        <p:spPr>
          <a:xfrm>
            <a:off x="8948880" y="321300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7"/>
          <p:cNvSpPr/>
          <p:nvPr/>
        </p:nvSpPr>
        <p:spPr>
          <a:xfrm rot="16200000">
            <a:off x="4750560" y="2905560"/>
            <a:ext cx="144360" cy="35892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10"/>
          <p:cNvSpPr/>
          <p:nvPr/>
        </p:nvSpPr>
        <p:spPr>
          <a:xfrm>
            <a:off x="467820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1"/>
          <p:cNvSpPr/>
          <p:nvPr/>
        </p:nvSpPr>
        <p:spPr>
          <a:xfrm>
            <a:off x="898524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3"/>
          <p:cNvSpPr/>
          <p:nvPr/>
        </p:nvSpPr>
        <p:spPr>
          <a:xfrm rot="16200000">
            <a:off x="4784400" y="4511520"/>
            <a:ext cx="144720" cy="360360"/>
          </a:xfrm>
          <a:custGeom>
            <a:avLst/>
            <a:gdLst>
              <a:gd name="textAreaLeft" fmla="*/ 0 w 144720"/>
              <a:gd name="textAreaRight" fmla="*/ 52200 w 14472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5"/>
          <p:cNvSpPr/>
          <p:nvPr/>
        </p:nvSpPr>
        <p:spPr>
          <a:xfrm rot="16200000">
            <a:off x="6726960" y="2089440"/>
            <a:ext cx="190440" cy="4284720"/>
          </a:xfrm>
          <a:custGeom>
            <a:avLst/>
            <a:gdLst>
              <a:gd name="textAreaLeft" fmla="*/ 0 w 190440"/>
              <a:gd name="textAreaRight" fmla="*/ 68760 w 190440"/>
              <a:gd name="textAreaTop" fmla="*/ 148320 h 4284720"/>
              <a:gd name="textAreaBottom" fmla="*/ 4136400 h 42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7"/>
                  <a:pt x="10800" y="2393"/>
                </a:cubicBezTo>
                <a:lnTo>
                  <a:pt x="10800" y="8407"/>
                </a:lnTo>
                <a:cubicBezTo>
                  <a:pt x="10800" y="9604"/>
                  <a:pt x="16200" y="10800"/>
                  <a:pt x="21600" y="10800"/>
                </a:cubicBezTo>
                <a:cubicBezTo>
                  <a:pt x="16200" y="10800"/>
                  <a:pt x="10800" y="11997"/>
                  <a:pt x="10800" y="13193"/>
                </a:cubicBezTo>
                <a:lnTo>
                  <a:pt x="10800" y="19207"/>
                </a:lnTo>
                <a:cubicBezTo>
                  <a:pt x="10800" y="2040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6"/>
          <p:cNvSpPr/>
          <p:nvPr/>
        </p:nvSpPr>
        <p:spPr>
          <a:xfrm>
            <a:off x="6396120" y="378288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18"/>
          <p:cNvSpPr/>
          <p:nvPr/>
        </p:nvSpPr>
        <p:spPr>
          <a:xfrm>
            <a:off x="504036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9"/>
          <p:cNvSpPr/>
          <p:nvPr/>
        </p:nvSpPr>
        <p:spPr>
          <a:xfrm>
            <a:off x="8996400" y="629604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0"/>
          <p:cNvSpPr/>
          <p:nvPr/>
        </p:nvSpPr>
        <p:spPr>
          <a:xfrm>
            <a:off x="529272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1"/>
          <p:cNvSpPr/>
          <p:nvPr/>
        </p:nvSpPr>
        <p:spPr>
          <a:xfrm rot="16200000">
            <a:off x="5098320" y="6093360"/>
            <a:ext cx="144360" cy="237960"/>
          </a:xfrm>
          <a:custGeom>
            <a:avLst/>
            <a:gdLst>
              <a:gd name="textAreaLeft" fmla="*/ 0 w 144360"/>
              <a:gd name="textAreaRight" fmla="*/ 52200 w 144360"/>
              <a:gd name="textAreaTop" fmla="*/ 6120 h 237960"/>
              <a:gd name="textAreaBottom" fmla="*/ 23184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2"/>
          <p:cNvSpPr/>
          <p:nvPr/>
        </p:nvSpPr>
        <p:spPr>
          <a:xfrm>
            <a:off x="468000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3"/>
          <p:cNvSpPr/>
          <p:nvPr/>
        </p:nvSpPr>
        <p:spPr>
          <a:xfrm rot="16200000">
            <a:off x="4788360" y="6034680"/>
            <a:ext cx="144720" cy="358920"/>
          </a:xfrm>
          <a:custGeom>
            <a:avLst/>
            <a:gdLst>
              <a:gd name="textAreaLeft" fmla="*/ 0 w 144720"/>
              <a:gd name="textAreaRight" fmla="*/ 52200 w 14472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6"/>
          <p:cNvSpPr/>
          <p:nvPr/>
        </p:nvSpPr>
        <p:spPr>
          <a:xfrm rot="16200000">
            <a:off x="6728400" y="3564360"/>
            <a:ext cx="220680" cy="4317840"/>
          </a:xfrm>
          <a:custGeom>
            <a:avLst/>
            <a:gdLst>
              <a:gd name="textAreaLeft" fmla="*/ 0 w 220680"/>
              <a:gd name="textAreaRight" fmla="*/ 79560 w 220680"/>
              <a:gd name="textAreaTop" fmla="*/ 176040 h 4317840"/>
              <a:gd name="textAreaBottom" fmla="*/ 4141800 h 431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9"/>
                  <a:pt x="10800" y="2818"/>
                </a:cubicBezTo>
                <a:lnTo>
                  <a:pt x="10800" y="7982"/>
                </a:lnTo>
                <a:cubicBezTo>
                  <a:pt x="10800" y="9391"/>
                  <a:pt x="16200" y="10800"/>
                  <a:pt x="21600" y="10800"/>
                </a:cubicBezTo>
                <a:cubicBezTo>
                  <a:pt x="16200" y="10800"/>
                  <a:pt x="10800" y="12209"/>
                  <a:pt x="10800" y="13618"/>
                </a:cubicBezTo>
                <a:lnTo>
                  <a:pt x="10800" y="18782"/>
                </a:lnTo>
                <a:cubicBezTo>
                  <a:pt x="10800" y="2019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8"/>
          <p:cNvSpPr/>
          <p:nvPr/>
        </p:nvSpPr>
        <p:spPr>
          <a:xfrm>
            <a:off x="6427800" y="5265720"/>
            <a:ext cx="826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9"/>
          <p:cNvSpPr/>
          <p:nvPr/>
        </p:nvSpPr>
        <p:spPr>
          <a:xfrm>
            <a:off x="4521240" y="2682720"/>
            <a:ext cx="1008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0"/>
          <p:cNvSpPr/>
          <p:nvPr/>
        </p:nvSpPr>
        <p:spPr>
          <a:xfrm>
            <a:off x="4556160" y="429084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1"/>
          <p:cNvSpPr/>
          <p:nvPr/>
        </p:nvSpPr>
        <p:spPr>
          <a:xfrm>
            <a:off x="4429080" y="5805360"/>
            <a:ext cx="230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643280" y="3284640"/>
            <a:ext cx="4317840" cy="0"/>
            <a:chOff x="4643280" y="3284640"/>
            <a:chExt cx="4317840" cy="0"/>
          </a:xfrm>
        </p:grpSpPr>
        <p:sp>
          <p:nvSpPr>
            <p:cNvPr id="101" name=""/>
            <p:cNvSpPr/>
            <p:nvPr/>
          </p:nvSpPr>
          <p:spPr>
            <a:xfrm>
              <a:off x="4643280" y="3284640"/>
              <a:ext cx="431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3280" y="3284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84360" y="2565360"/>
            <a:ext cx="3671640" cy="1637280"/>
            <a:chOff x="684360" y="2565360"/>
            <a:chExt cx="3671640" cy="1637280"/>
          </a:xfrm>
        </p:grpSpPr>
        <p:sp>
          <p:nvSpPr>
            <p:cNvPr id="104" name="Text Box 46"/>
            <p:cNvSpPr/>
            <p:nvPr/>
          </p:nvSpPr>
          <p:spPr>
            <a:xfrm>
              <a:off x="684360" y="2565360"/>
              <a:ext cx="367164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÷1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÷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＝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天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817720" y="3424320"/>
              <a:ext cx="586440" cy="778320"/>
              <a:chOff x="2817720" y="3424320"/>
              <a:chExt cx="586440" cy="778320"/>
            </a:xfrm>
          </p:grpSpPr>
          <p:sp>
            <p:nvSpPr>
              <p:cNvPr id="106" name=""/>
              <p:cNvSpPr/>
              <p:nvPr/>
            </p:nvSpPr>
            <p:spPr>
              <a:xfrm>
                <a:off x="2899800" y="37796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17720" y="3424320"/>
                <a:ext cx="580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880720" y="3843000"/>
                <a:ext cx="35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Line 105"/>
          <p:cNvSpPr/>
          <p:nvPr/>
        </p:nvSpPr>
        <p:spPr>
          <a:xfrm>
            <a:off x="5038560" y="47880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668840" y="4851360"/>
            <a:ext cx="4317840" cy="0"/>
            <a:chOff x="4668840" y="4851360"/>
            <a:chExt cx="4317840" cy="0"/>
          </a:xfrm>
        </p:grpSpPr>
        <p:sp>
          <p:nvSpPr>
            <p:cNvPr id="111" name=""/>
            <p:cNvSpPr/>
            <p:nvPr/>
          </p:nvSpPr>
          <p:spPr>
            <a:xfrm>
              <a:off x="4668840" y="4851360"/>
              <a:ext cx="431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68840" y="48513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665600" y="6372360"/>
            <a:ext cx="4317840" cy="0"/>
            <a:chOff x="4665600" y="6372360"/>
            <a:chExt cx="4317840" cy="0"/>
          </a:xfrm>
        </p:grpSpPr>
        <p:sp>
          <p:nvSpPr>
            <p:cNvPr id="114" name=""/>
            <p:cNvSpPr/>
            <p:nvPr/>
          </p:nvSpPr>
          <p:spPr>
            <a:xfrm>
              <a:off x="4665600" y="6372360"/>
              <a:ext cx="431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5600" y="63723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31840" y="5440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7840" y="5656320"/>
            <a:ext cx="561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41520" y="3789360"/>
            <a:ext cx="4867200" cy="1835280"/>
            <a:chOff x="641520" y="3789360"/>
            <a:chExt cx="4867200" cy="1835280"/>
          </a:xfrm>
        </p:grpSpPr>
        <p:sp>
          <p:nvSpPr>
            <p:cNvPr id="119" name="TextBox 136"/>
            <p:cNvSpPr/>
            <p:nvPr/>
          </p:nvSpPr>
          <p:spPr>
            <a:xfrm>
              <a:off x="641520" y="3884760"/>
              <a:ext cx="48672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÷1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求的是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一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天修的长度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÷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求的又是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二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修的长度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298960" y="3789360"/>
              <a:ext cx="511200" cy="778680"/>
              <a:chOff x="2298960" y="3789360"/>
              <a:chExt cx="511200" cy="778680"/>
            </a:xfrm>
          </p:grpSpPr>
          <p:sp>
            <p:nvSpPr>
              <p:cNvPr id="121" name=""/>
              <p:cNvSpPr/>
              <p:nvPr/>
            </p:nvSpPr>
            <p:spPr>
              <a:xfrm>
                <a:off x="2305440" y="41450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98960" y="3789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14800" y="42084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2320920" y="4702320"/>
              <a:ext cx="511200" cy="778320"/>
              <a:chOff x="2320920" y="4702320"/>
              <a:chExt cx="511200" cy="778320"/>
            </a:xfrm>
          </p:grpSpPr>
          <p:sp>
            <p:nvSpPr>
              <p:cNvPr id="125" name=""/>
              <p:cNvSpPr/>
              <p:nvPr/>
            </p:nvSpPr>
            <p:spPr>
              <a:xfrm>
                <a:off x="2327400" y="50576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320920" y="47023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336760" y="51210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5"/>
          <p:cNvSpPr/>
          <p:nvPr/>
        </p:nvSpPr>
        <p:spPr>
          <a:xfrm>
            <a:off x="1440" y="3913200"/>
            <a:ext cx="121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4920" y="2035080"/>
            <a:ext cx="115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6416640" y="213192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7"/>
          <p:cNvSpPr/>
          <p:nvPr/>
        </p:nvSpPr>
        <p:spPr>
          <a:xfrm rot="16200000">
            <a:off x="6767280" y="420480"/>
            <a:ext cx="144720" cy="4319640"/>
          </a:xfrm>
          <a:custGeom>
            <a:avLst/>
            <a:gdLst>
              <a:gd name="textAreaLeft" fmla="*/ 0 w 144720"/>
              <a:gd name="textAreaRight" fmla="*/ 52200 w 14472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4678200" y="32608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8999640" y="32608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2"/>
          <p:cNvSpPr/>
          <p:nvPr/>
        </p:nvSpPr>
        <p:spPr>
          <a:xfrm rot="16200000">
            <a:off x="4785480" y="2999160"/>
            <a:ext cx="144360" cy="35892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467820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899460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6"/>
          <p:cNvSpPr/>
          <p:nvPr/>
        </p:nvSpPr>
        <p:spPr>
          <a:xfrm>
            <a:off x="491796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7"/>
          <p:cNvSpPr/>
          <p:nvPr/>
        </p:nvSpPr>
        <p:spPr>
          <a:xfrm rot="16200000">
            <a:off x="4743360" y="4583160"/>
            <a:ext cx="108000" cy="238320"/>
          </a:xfrm>
          <a:custGeom>
            <a:avLst/>
            <a:gdLst>
              <a:gd name="textAreaLeft" fmla="*/ 0 w 108000"/>
              <a:gd name="textAreaRight" fmla="*/ 38880 w 108000"/>
              <a:gd name="textAreaTop" fmla="*/ 6120 h 238320"/>
              <a:gd name="textAreaBottom" fmla="*/ 232200 h 2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8"/>
          <p:cNvSpPr/>
          <p:nvPr/>
        </p:nvSpPr>
        <p:spPr>
          <a:xfrm rot="16200000">
            <a:off x="6767640" y="1963440"/>
            <a:ext cx="144360" cy="4319640"/>
          </a:xfrm>
          <a:custGeom>
            <a:avLst/>
            <a:gdLst>
              <a:gd name="textAreaLeft" fmla="*/ 0 w 144360"/>
              <a:gd name="textAreaRight" fmla="*/ 52200 w 144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6497640" y="369576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4680000" y="6357960"/>
            <a:ext cx="43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04036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2"/>
          <p:cNvSpPr/>
          <p:nvPr/>
        </p:nvSpPr>
        <p:spPr>
          <a:xfrm>
            <a:off x="899640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3"/>
          <p:cNvSpPr/>
          <p:nvPr/>
        </p:nvSpPr>
        <p:spPr>
          <a:xfrm>
            <a:off x="528012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 rot="16200000">
            <a:off x="5088600" y="6095160"/>
            <a:ext cx="144720" cy="238320"/>
          </a:xfrm>
          <a:custGeom>
            <a:avLst/>
            <a:gdLst>
              <a:gd name="textAreaLeft" fmla="*/ 0 w 144720"/>
              <a:gd name="textAreaRight" fmla="*/ 52200 w 144720"/>
              <a:gd name="textAreaTop" fmla="*/ 6120 h 238320"/>
              <a:gd name="textAreaBottom" fmla="*/ 232200 h 2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5"/>
          <p:cNvSpPr/>
          <p:nvPr/>
        </p:nvSpPr>
        <p:spPr>
          <a:xfrm>
            <a:off x="468000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6"/>
          <p:cNvSpPr/>
          <p:nvPr/>
        </p:nvSpPr>
        <p:spPr>
          <a:xfrm rot="16200000">
            <a:off x="4779000" y="6035040"/>
            <a:ext cx="144720" cy="358560"/>
          </a:xfrm>
          <a:custGeom>
            <a:avLst/>
            <a:gdLst>
              <a:gd name="textAreaLeft" fmla="*/ 0 w 144720"/>
              <a:gd name="textAreaRight" fmla="*/ 52200 w 144720"/>
              <a:gd name="textAreaTop" fmla="*/ 9360 h 358560"/>
              <a:gd name="textAreaBottom" fmla="*/ 34920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7"/>
          <p:cNvSpPr/>
          <p:nvPr/>
        </p:nvSpPr>
        <p:spPr>
          <a:xfrm rot="16200000">
            <a:off x="6767280" y="3504960"/>
            <a:ext cx="144720" cy="4319640"/>
          </a:xfrm>
          <a:custGeom>
            <a:avLst/>
            <a:gdLst>
              <a:gd name="textAreaLeft" fmla="*/ 0 w 144720"/>
              <a:gd name="textAreaRight" fmla="*/ 52200 w 14472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6442200" y="523224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5"/>
          <p:cNvSpPr/>
          <p:nvPr/>
        </p:nvSpPr>
        <p:spPr>
          <a:xfrm>
            <a:off x="5045040" y="326556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684680" y="3328920"/>
            <a:ext cx="4317840" cy="0"/>
            <a:chOff x="4684680" y="3328920"/>
            <a:chExt cx="4317840" cy="0"/>
          </a:xfrm>
        </p:grpSpPr>
        <p:sp>
          <p:nvSpPr>
            <p:cNvPr id="159" name=""/>
            <p:cNvSpPr/>
            <p:nvPr/>
          </p:nvSpPr>
          <p:spPr>
            <a:xfrm>
              <a:off x="4684680" y="3328920"/>
              <a:ext cx="431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84680" y="3328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591080" y="2689200"/>
            <a:ext cx="833400" cy="504720"/>
            <a:chOff x="4591080" y="2689200"/>
            <a:chExt cx="833400" cy="504720"/>
          </a:xfrm>
        </p:grpSpPr>
        <p:sp>
          <p:nvSpPr>
            <p:cNvPr id="162" name="Text Box 39"/>
            <p:cNvSpPr/>
            <p:nvPr/>
          </p:nvSpPr>
          <p:spPr>
            <a:xfrm>
              <a:off x="4699080" y="27320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4591080" y="2689200"/>
              <a:ext cx="1951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4668840" y="4856040"/>
            <a:ext cx="4317840" cy="0"/>
            <a:chOff x="4668840" y="4856040"/>
            <a:chExt cx="4317840" cy="0"/>
          </a:xfrm>
        </p:grpSpPr>
        <p:sp>
          <p:nvSpPr>
            <p:cNvPr id="165" name=""/>
            <p:cNvSpPr/>
            <p:nvPr/>
          </p:nvSpPr>
          <p:spPr>
            <a:xfrm>
              <a:off x="4668840" y="4856040"/>
              <a:ext cx="431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68840" y="4856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591080" y="4211640"/>
            <a:ext cx="833400" cy="504720"/>
            <a:chOff x="4591080" y="4211640"/>
            <a:chExt cx="833400" cy="504720"/>
          </a:xfrm>
        </p:grpSpPr>
        <p:sp>
          <p:nvSpPr>
            <p:cNvPr id="168" name="Text Box 39"/>
            <p:cNvSpPr/>
            <p:nvPr/>
          </p:nvSpPr>
          <p:spPr>
            <a:xfrm>
              <a:off x="4699080" y="42544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4591080" y="4211640"/>
              <a:ext cx="1951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4524480" y="5670720"/>
            <a:ext cx="1415880" cy="504720"/>
            <a:chOff x="4524480" y="5670720"/>
            <a:chExt cx="1415880" cy="504720"/>
          </a:xfrm>
        </p:grpSpPr>
        <p:sp>
          <p:nvSpPr>
            <p:cNvPr id="171" name="Text Box 39"/>
            <p:cNvSpPr/>
            <p:nvPr/>
          </p:nvSpPr>
          <p:spPr>
            <a:xfrm>
              <a:off x="4524480" y="5713560"/>
              <a:ext cx="14158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    )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4738680" y="5670720"/>
              <a:ext cx="48924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"/>
          <p:cNvGrpSpPr/>
          <p:nvPr/>
        </p:nvGrpSpPr>
        <p:grpSpPr>
          <a:xfrm>
            <a:off x="971640" y="1870200"/>
            <a:ext cx="3671640" cy="1982880"/>
            <a:chOff x="971640" y="1870200"/>
            <a:chExt cx="3671640" cy="1982880"/>
          </a:xfrm>
        </p:grpSpPr>
        <p:sp>
          <p:nvSpPr>
            <p:cNvPr id="174" name="Text Box 8"/>
            <p:cNvSpPr/>
            <p:nvPr/>
          </p:nvSpPr>
          <p:spPr>
            <a:xfrm>
              <a:off x="971640" y="2035080"/>
              <a:ext cx="3671640" cy="15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÷1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÷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＝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天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163600" y="1870200"/>
              <a:ext cx="510480" cy="778320"/>
              <a:chOff x="2163600" y="1870200"/>
              <a:chExt cx="510480" cy="778320"/>
            </a:xfrm>
          </p:grpSpPr>
          <p:sp>
            <p:nvSpPr>
              <p:cNvPr id="176" name=""/>
              <p:cNvSpPr/>
              <p:nvPr/>
            </p:nvSpPr>
            <p:spPr>
              <a:xfrm>
                <a:off x="2169720" y="22255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163600" y="187020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179080" y="228888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158560" y="2458800"/>
              <a:ext cx="510480" cy="778320"/>
              <a:chOff x="2158560" y="2458800"/>
              <a:chExt cx="510480" cy="778320"/>
            </a:xfrm>
          </p:grpSpPr>
          <p:sp>
            <p:nvSpPr>
              <p:cNvPr id="180" name=""/>
              <p:cNvSpPr/>
              <p:nvPr/>
            </p:nvSpPr>
            <p:spPr>
              <a:xfrm>
                <a:off x="2164680" y="28141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158560" y="245880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174040" y="287748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82360" y="3071520"/>
              <a:ext cx="510480" cy="778320"/>
              <a:chOff x="1782360" y="3071520"/>
              <a:chExt cx="510480" cy="778320"/>
            </a:xfrm>
          </p:grpSpPr>
          <p:sp>
            <p:nvSpPr>
              <p:cNvPr id="184" name=""/>
              <p:cNvSpPr/>
              <p:nvPr/>
            </p:nvSpPr>
            <p:spPr>
              <a:xfrm>
                <a:off x="1788480" y="34268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82360" y="30715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97840" y="34902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88880" y="3071520"/>
              <a:ext cx="510480" cy="778320"/>
              <a:chOff x="2288880" y="3071520"/>
              <a:chExt cx="510480" cy="778320"/>
            </a:xfrm>
          </p:grpSpPr>
          <p:sp>
            <p:nvSpPr>
              <p:cNvPr id="188" name=""/>
              <p:cNvSpPr/>
              <p:nvPr/>
            </p:nvSpPr>
            <p:spPr>
              <a:xfrm>
                <a:off x="2295000" y="342684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288880" y="307152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04360" y="349020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997000" y="3074760"/>
              <a:ext cx="586440" cy="778320"/>
              <a:chOff x="2997000" y="3074760"/>
              <a:chExt cx="586440" cy="778320"/>
            </a:xfrm>
          </p:grpSpPr>
          <p:sp>
            <p:nvSpPr>
              <p:cNvPr id="192" name=""/>
              <p:cNvSpPr/>
              <p:nvPr/>
            </p:nvSpPr>
            <p:spPr>
              <a:xfrm>
                <a:off x="3079080" y="343008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997000" y="3074760"/>
                <a:ext cx="5803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60000" y="3493440"/>
                <a:ext cx="35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682560" y="5686560"/>
            <a:ext cx="3745080" cy="1013400"/>
            <a:chOff x="682560" y="5686560"/>
            <a:chExt cx="3745080" cy="1013400"/>
          </a:xfrm>
        </p:grpSpPr>
        <p:sp>
          <p:nvSpPr>
            <p:cNvPr id="196" name="TextBox 136"/>
            <p:cNvSpPr/>
            <p:nvPr/>
          </p:nvSpPr>
          <p:spPr>
            <a:xfrm>
              <a:off x="682560" y="5783040"/>
              <a:ext cx="3745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②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求的是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两队合修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的长度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287360" y="5686560"/>
              <a:ext cx="511200" cy="778320"/>
              <a:chOff x="1287360" y="5686560"/>
              <a:chExt cx="511200" cy="778320"/>
            </a:xfrm>
          </p:grpSpPr>
          <p:sp>
            <p:nvSpPr>
              <p:cNvPr id="198" name=""/>
              <p:cNvSpPr/>
              <p:nvPr/>
            </p:nvSpPr>
            <p:spPr>
              <a:xfrm>
                <a:off x="1293840" y="60418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287360" y="5686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303200" y="61052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795320" y="5690880"/>
              <a:ext cx="511200" cy="778320"/>
              <a:chOff x="1795320" y="5690880"/>
              <a:chExt cx="511200" cy="778320"/>
            </a:xfrm>
          </p:grpSpPr>
          <p:sp>
            <p:nvSpPr>
              <p:cNvPr id="202" name=""/>
              <p:cNvSpPr/>
              <p:nvPr/>
            </p:nvSpPr>
            <p:spPr>
              <a:xfrm>
                <a:off x="1801800" y="60462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795320" y="56908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11160" y="610956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35"/>
          <p:cNvSpPr/>
          <p:nvPr/>
        </p:nvSpPr>
        <p:spPr>
          <a:xfrm>
            <a:off x="114480" y="4286160"/>
            <a:ext cx="14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36"/>
          <p:cNvSpPr/>
          <p:nvPr/>
        </p:nvSpPr>
        <p:spPr>
          <a:xfrm>
            <a:off x="826920" y="4292640"/>
            <a:ext cx="8031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们假设这条路的长度都不同，但最终的结果是相同的，那么这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路的长度还可以看做是多少千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6"/>
          <p:cNvSpPr/>
          <p:nvPr/>
        </p:nvSpPr>
        <p:spPr>
          <a:xfrm>
            <a:off x="836640" y="5075280"/>
            <a:ext cx="7950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条路的长度可以看做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2"/>
          <p:cNvSpPr/>
          <p:nvPr/>
        </p:nvSpPr>
        <p:spPr>
          <a:xfrm>
            <a:off x="831960" y="5504040"/>
            <a:ext cx="7383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果把这条路的长度看做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应该怎样解答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5"/>
          <p:cNvSpPr/>
          <p:nvPr/>
        </p:nvSpPr>
        <p:spPr>
          <a:xfrm>
            <a:off x="455760" y="2130480"/>
            <a:ext cx="115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4572000" y="1996920"/>
            <a:ext cx="1152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60480" y="2612880"/>
            <a:ext cx="3672000" cy="1640520"/>
            <a:chOff x="960480" y="2612880"/>
            <a:chExt cx="3672000" cy="1640520"/>
          </a:xfrm>
        </p:grpSpPr>
        <p:sp>
          <p:nvSpPr>
            <p:cNvPr id="219" name="Text Box 46"/>
            <p:cNvSpPr/>
            <p:nvPr/>
          </p:nvSpPr>
          <p:spPr>
            <a:xfrm>
              <a:off x="960480" y="2612880"/>
              <a:ext cx="367200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÷1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÷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＝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天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075120" y="3474720"/>
              <a:ext cx="586800" cy="778680"/>
              <a:chOff x="3075120" y="3474720"/>
              <a:chExt cx="586800" cy="778680"/>
            </a:xfrm>
          </p:grpSpPr>
          <p:sp>
            <p:nvSpPr>
              <p:cNvPr id="221" name=""/>
              <p:cNvSpPr/>
              <p:nvPr/>
            </p:nvSpPr>
            <p:spPr>
              <a:xfrm>
                <a:off x="3157200" y="3830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075120" y="3474720"/>
                <a:ext cx="580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138120" y="38937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4" name=""/>
          <p:cNvGrpSpPr/>
          <p:nvPr/>
        </p:nvGrpSpPr>
        <p:grpSpPr>
          <a:xfrm>
            <a:off x="5076720" y="2301840"/>
            <a:ext cx="3672000" cy="2021760"/>
            <a:chOff x="5076720" y="2301840"/>
            <a:chExt cx="3672000" cy="2021760"/>
          </a:xfrm>
        </p:grpSpPr>
        <p:sp>
          <p:nvSpPr>
            <p:cNvPr id="225" name="Text Box 8"/>
            <p:cNvSpPr/>
            <p:nvPr/>
          </p:nvSpPr>
          <p:spPr>
            <a:xfrm>
              <a:off x="5076720" y="2417760"/>
              <a:ext cx="3672000" cy="16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÷12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÷1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 ＋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＝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天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6237360" y="2301840"/>
              <a:ext cx="510480" cy="778680"/>
              <a:chOff x="6237360" y="2301840"/>
              <a:chExt cx="510480" cy="77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6243480" y="265752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237360" y="230184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81280" y="272088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6246720" y="2919240"/>
              <a:ext cx="511200" cy="778680"/>
              <a:chOff x="6246720" y="2919240"/>
              <a:chExt cx="511200" cy="778680"/>
            </a:xfrm>
          </p:grpSpPr>
          <p:sp>
            <p:nvSpPr>
              <p:cNvPr id="231" name=""/>
              <p:cNvSpPr/>
              <p:nvPr/>
            </p:nvSpPr>
            <p:spPr>
              <a:xfrm>
                <a:off x="6253200" y="32749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246720" y="29192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291000" y="333828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5940360" y="3543120"/>
              <a:ext cx="511200" cy="778680"/>
              <a:chOff x="5940360" y="3543120"/>
              <a:chExt cx="511200" cy="778680"/>
            </a:xfrm>
          </p:grpSpPr>
          <p:sp>
            <p:nvSpPr>
              <p:cNvPr id="235" name=""/>
              <p:cNvSpPr/>
              <p:nvPr/>
            </p:nvSpPr>
            <p:spPr>
              <a:xfrm>
                <a:off x="5946840" y="3898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40360" y="3543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984640" y="39621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453000" y="3543120"/>
              <a:ext cx="511200" cy="778680"/>
              <a:chOff x="6453000" y="3543120"/>
              <a:chExt cx="511200" cy="778680"/>
            </a:xfrm>
          </p:grpSpPr>
          <p:sp>
            <p:nvSpPr>
              <p:cNvPr id="239" name=""/>
              <p:cNvSpPr/>
              <p:nvPr/>
            </p:nvSpPr>
            <p:spPr>
              <a:xfrm>
                <a:off x="6459480" y="3898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53000" y="3543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97280" y="3962160"/>
                <a:ext cx="25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7149960" y="3544920"/>
              <a:ext cx="587520" cy="778680"/>
              <a:chOff x="7149960" y="3544920"/>
              <a:chExt cx="587520" cy="778680"/>
            </a:xfrm>
          </p:grpSpPr>
          <p:sp>
            <p:nvSpPr>
              <p:cNvPr id="243" name=""/>
              <p:cNvSpPr/>
              <p:nvPr/>
            </p:nvSpPr>
            <p:spPr>
              <a:xfrm>
                <a:off x="7232400" y="390060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49960" y="3544920"/>
                <a:ext cx="5810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213320" y="3963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900000" y="256392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35"/>
          <p:cNvSpPr/>
          <p:nvPr/>
        </p:nvSpPr>
        <p:spPr>
          <a:xfrm>
            <a:off x="-52560" y="3703680"/>
            <a:ext cx="1359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36"/>
          <p:cNvSpPr/>
          <p:nvPr/>
        </p:nvSpPr>
        <p:spPr>
          <a:xfrm>
            <a:off x="595440" y="3732120"/>
            <a:ext cx="3716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样列式的依据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7"/>
          <p:cNvSpPr/>
          <p:nvPr/>
        </p:nvSpPr>
        <p:spPr>
          <a:xfrm>
            <a:off x="6427800" y="2386080"/>
            <a:ext cx="865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9"/>
          <p:cNvSpPr/>
          <p:nvPr/>
        </p:nvSpPr>
        <p:spPr>
          <a:xfrm rot="16200000">
            <a:off x="6730560" y="641160"/>
            <a:ext cx="144720" cy="4319640"/>
          </a:xfrm>
          <a:custGeom>
            <a:avLst/>
            <a:gdLst>
              <a:gd name="textAreaLeft" fmla="*/ 0 w 144720"/>
              <a:gd name="textAreaRight" fmla="*/ 52200 w 14472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0"/>
          <p:cNvSpPr/>
          <p:nvPr/>
        </p:nvSpPr>
        <p:spPr>
          <a:xfrm>
            <a:off x="4641840" y="3448080"/>
            <a:ext cx="43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91"/>
          <p:cNvSpPr/>
          <p:nvPr/>
        </p:nvSpPr>
        <p:spPr>
          <a:xfrm>
            <a:off x="4641840" y="33764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2"/>
          <p:cNvSpPr/>
          <p:nvPr/>
        </p:nvSpPr>
        <p:spPr>
          <a:xfrm>
            <a:off x="5002200" y="33764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3"/>
          <p:cNvSpPr/>
          <p:nvPr/>
        </p:nvSpPr>
        <p:spPr>
          <a:xfrm>
            <a:off x="8953560" y="33764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94"/>
          <p:cNvSpPr/>
          <p:nvPr/>
        </p:nvSpPr>
        <p:spPr>
          <a:xfrm rot="16200000">
            <a:off x="4750560" y="3124440"/>
            <a:ext cx="144360" cy="35892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705200" y="2833560"/>
            <a:ext cx="8371080" cy="6280200"/>
          </a:xfrm>
          <a:prstGeom prst="rect">
            <a:avLst/>
          </a:prstGeom>
          <a:ln w="0">
            <a:noFill/>
          </a:ln>
        </p:spPr>
      </p:pic>
      <p:sp>
        <p:nvSpPr>
          <p:cNvPr id="265" name="Line 96"/>
          <p:cNvSpPr/>
          <p:nvPr/>
        </p:nvSpPr>
        <p:spPr>
          <a:xfrm>
            <a:off x="4641840" y="4960800"/>
            <a:ext cx="43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7"/>
          <p:cNvSpPr/>
          <p:nvPr/>
        </p:nvSpPr>
        <p:spPr>
          <a:xfrm>
            <a:off x="4641840" y="48895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8"/>
          <p:cNvSpPr/>
          <p:nvPr/>
        </p:nvSpPr>
        <p:spPr>
          <a:xfrm>
            <a:off x="8958240" y="48895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9"/>
          <p:cNvSpPr/>
          <p:nvPr/>
        </p:nvSpPr>
        <p:spPr>
          <a:xfrm>
            <a:off x="4890960" y="48895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00"/>
          <p:cNvSpPr/>
          <p:nvPr/>
        </p:nvSpPr>
        <p:spPr>
          <a:xfrm rot="16200000">
            <a:off x="4691880" y="4696200"/>
            <a:ext cx="144360" cy="241560"/>
          </a:xfrm>
          <a:custGeom>
            <a:avLst/>
            <a:gdLst>
              <a:gd name="textAreaLeft" fmla="*/ 0 w 144360"/>
              <a:gd name="textAreaRight" fmla="*/ 52200 w 144360"/>
              <a:gd name="textAreaTop" fmla="*/ 6120 h 241560"/>
              <a:gd name="textAreaBottom" fmla="*/ 235440 h 2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4641840" y="4265640"/>
            <a:ext cx="8370720" cy="628020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102"/>
          <p:cNvSpPr/>
          <p:nvPr/>
        </p:nvSpPr>
        <p:spPr>
          <a:xfrm rot="16200000">
            <a:off x="6730920" y="2079360"/>
            <a:ext cx="144360" cy="4319640"/>
          </a:xfrm>
          <a:custGeom>
            <a:avLst/>
            <a:gdLst>
              <a:gd name="textAreaLeft" fmla="*/ 0 w 144360"/>
              <a:gd name="textAreaRight" fmla="*/ 52200 w 144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3"/>
          <p:cNvSpPr/>
          <p:nvPr/>
        </p:nvSpPr>
        <p:spPr>
          <a:xfrm>
            <a:off x="6357960" y="3786120"/>
            <a:ext cx="865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04"/>
          <p:cNvSpPr/>
          <p:nvPr/>
        </p:nvSpPr>
        <p:spPr>
          <a:xfrm>
            <a:off x="4643280" y="6473880"/>
            <a:ext cx="432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05"/>
          <p:cNvSpPr/>
          <p:nvPr/>
        </p:nvSpPr>
        <p:spPr>
          <a:xfrm>
            <a:off x="5003640" y="6402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6"/>
          <p:cNvSpPr/>
          <p:nvPr/>
        </p:nvSpPr>
        <p:spPr>
          <a:xfrm>
            <a:off x="8959680" y="6402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07"/>
          <p:cNvSpPr/>
          <p:nvPr/>
        </p:nvSpPr>
        <p:spPr>
          <a:xfrm>
            <a:off x="5253120" y="6402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08"/>
          <p:cNvSpPr/>
          <p:nvPr/>
        </p:nvSpPr>
        <p:spPr>
          <a:xfrm rot="16200000">
            <a:off x="5053680" y="6208920"/>
            <a:ext cx="144360" cy="241200"/>
          </a:xfrm>
          <a:custGeom>
            <a:avLst/>
            <a:gdLst>
              <a:gd name="textAreaLeft" fmla="*/ 0 w 144360"/>
              <a:gd name="textAreaRight" fmla="*/ 52200 w 144360"/>
              <a:gd name="textAreaTop" fmla="*/ 6120 h 241200"/>
              <a:gd name="textAreaBottom" fmla="*/ 2350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9"/>
          <p:cNvSpPr/>
          <p:nvPr/>
        </p:nvSpPr>
        <p:spPr>
          <a:xfrm>
            <a:off x="4643280" y="6402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0"/>
          <p:cNvSpPr/>
          <p:nvPr/>
        </p:nvSpPr>
        <p:spPr>
          <a:xfrm rot="16200000">
            <a:off x="4752000" y="6150240"/>
            <a:ext cx="144360" cy="35856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58560"/>
              <a:gd name="textAreaBottom" fmla="*/ 34920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629240" y="5818320"/>
                <a:ext cx="8370720" cy="62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81" name="" descr=""/>
          <p:cNvPicPr/>
          <p:nvPr/>
        </p:nvPicPr>
        <p:blipFill>
          <a:blip r:embed="rId4"/>
          <a:stretch/>
        </p:blipFill>
        <p:spPr>
          <a:xfrm>
            <a:off x="4989600" y="5818320"/>
            <a:ext cx="274680" cy="47772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13"/>
          <p:cNvSpPr/>
          <p:nvPr/>
        </p:nvSpPr>
        <p:spPr>
          <a:xfrm rot="16200000">
            <a:off x="6730560" y="3620880"/>
            <a:ext cx="144720" cy="4319640"/>
          </a:xfrm>
          <a:custGeom>
            <a:avLst/>
            <a:gdLst>
              <a:gd name="textAreaLeft" fmla="*/ 0 w 144720"/>
              <a:gd name="textAreaRight" fmla="*/ 52200 w 14472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4"/>
          <p:cNvSpPr/>
          <p:nvPr/>
        </p:nvSpPr>
        <p:spPr>
          <a:xfrm>
            <a:off x="6434280" y="5367240"/>
            <a:ext cx="865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6"/>
          <p:cNvSpPr/>
          <p:nvPr/>
        </p:nvSpPr>
        <p:spPr>
          <a:xfrm>
            <a:off x="-34920" y="4141800"/>
            <a:ext cx="5470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工作总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效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时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684360" y="1979640"/>
            <a:ext cx="3240000" cy="1843920"/>
            <a:chOff x="684360" y="1979640"/>
            <a:chExt cx="3240000" cy="1843920"/>
          </a:xfrm>
        </p:grpSpPr>
        <p:sp>
          <p:nvSpPr>
            <p:cNvPr id="286" name="Text Box 18"/>
            <p:cNvSpPr/>
            <p:nvPr/>
          </p:nvSpPr>
          <p:spPr>
            <a:xfrm>
              <a:off x="684360" y="2157480"/>
              <a:ext cx="3240000" cy="13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     ＋     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天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2327400" y="1989000"/>
              <a:ext cx="504720" cy="778680"/>
              <a:chOff x="2327400" y="1989000"/>
              <a:chExt cx="504720" cy="778680"/>
            </a:xfrm>
          </p:grpSpPr>
          <p:sp>
            <p:nvSpPr>
              <p:cNvPr id="288" name=""/>
              <p:cNvSpPr/>
              <p:nvPr/>
            </p:nvSpPr>
            <p:spPr>
              <a:xfrm>
                <a:off x="2327400" y="2344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416320" y="1989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394000" y="2408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698840" y="1979640"/>
              <a:ext cx="504720" cy="778680"/>
              <a:chOff x="1698840" y="1979640"/>
              <a:chExt cx="504720" cy="778680"/>
            </a:xfrm>
          </p:grpSpPr>
          <p:sp>
            <p:nvSpPr>
              <p:cNvPr id="292" name=""/>
              <p:cNvSpPr/>
              <p:nvPr/>
            </p:nvSpPr>
            <p:spPr>
              <a:xfrm>
                <a:off x="1698840" y="2335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787760" y="1979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5440" y="2398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1463760" y="2498760"/>
              <a:ext cx="504720" cy="778680"/>
              <a:chOff x="1463760" y="2498760"/>
              <a:chExt cx="504720" cy="778680"/>
            </a:xfrm>
          </p:grpSpPr>
          <p:sp>
            <p:nvSpPr>
              <p:cNvPr id="296" name=""/>
              <p:cNvSpPr/>
              <p:nvPr/>
            </p:nvSpPr>
            <p:spPr>
              <a:xfrm>
                <a:off x="1463760" y="28544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52680" y="24987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30360" y="2917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043280" y="3044880"/>
              <a:ext cx="586800" cy="778680"/>
              <a:chOff x="1043280" y="3044880"/>
              <a:chExt cx="586800" cy="7786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25360" y="34005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43280" y="3044880"/>
                <a:ext cx="580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06280" y="34639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469800" y="4384800"/>
            <a:ext cx="4357800" cy="1399680"/>
            <a:chOff x="469800" y="4384800"/>
            <a:chExt cx="4357800" cy="1399680"/>
          </a:xfrm>
        </p:grpSpPr>
        <p:sp>
          <p:nvSpPr>
            <p:cNvPr id="304" name="TextBox 136"/>
            <p:cNvSpPr/>
            <p:nvPr/>
          </p:nvSpPr>
          <p:spPr>
            <a:xfrm>
              <a:off x="588960" y="4565880"/>
              <a:ext cx="3529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求的是什么？     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136"/>
            <p:cNvSpPr/>
            <p:nvPr/>
          </p:nvSpPr>
          <p:spPr>
            <a:xfrm>
              <a:off x="469800" y="5032440"/>
              <a:ext cx="43578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一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修完这条路的几分之几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二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修完这条路的几分之几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909360" y="4408560"/>
              <a:ext cx="504720" cy="778680"/>
              <a:chOff x="909360" y="4408560"/>
              <a:chExt cx="504720" cy="778680"/>
            </a:xfrm>
          </p:grpSpPr>
          <p:sp>
            <p:nvSpPr>
              <p:cNvPr id="307" name=""/>
              <p:cNvSpPr/>
              <p:nvPr/>
            </p:nvSpPr>
            <p:spPr>
              <a:xfrm>
                <a:off x="909360" y="47642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98280" y="4408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975960" y="4827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2771640" y="4384800"/>
              <a:ext cx="504720" cy="778680"/>
              <a:chOff x="2771640" y="4384800"/>
              <a:chExt cx="504720" cy="778680"/>
            </a:xfrm>
          </p:grpSpPr>
          <p:sp>
            <p:nvSpPr>
              <p:cNvPr id="311" name=""/>
              <p:cNvSpPr/>
              <p:nvPr/>
            </p:nvSpPr>
            <p:spPr>
              <a:xfrm>
                <a:off x="2771640" y="47404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60560" y="43848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38240" y="4803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4" name=""/>
          <p:cNvGrpSpPr/>
          <p:nvPr/>
        </p:nvGrpSpPr>
        <p:grpSpPr>
          <a:xfrm>
            <a:off x="611280" y="5743440"/>
            <a:ext cx="3529080" cy="778680"/>
            <a:chOff x="611280" y="5743440"/>
            <a:chExt cx="3529080" cy="778680"/>
          </a:xfrm>
        </p:grpSpPr>
        <p:sp>
          <p:nvSpPr>
            <p:cNvPr id="315" name="TextBox 136"/>
            <p:cNvSpPr/>
            <p:nvPr/>
          </p:nvSpPr>
          <p:spPr>
            <a:xfrm>
              <a:off x="611280" y="5910120"/>
              <a:ext cx="3529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③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＋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求的是什么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1144800" y="5743440"/>
              <a:ext cx="504720" cy="778680"/>
              <a:chOff x="1144800" y="5743440"/>
              <a:chExt cx="504720" cy="778680"/>
            </a:xfrm>
          </p:grpSpPr>
          <p:sp>
            <p:nvSpPr>
              <p:cNvPr id="317" name=""/>
              <p:cNvSpPr/>
              <p:nvPr/>
            </p:nvSpPr>
            <p:spPr>
              <a:xfrm>
                <a:off x="1144800" y="60991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233720" y="57434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211400" y="6162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735200" y="5743440"/>
              <a:ext cx="504720" cy="778680"/>
              <a:chOff x="1735200" y="5743440"/>
              <a:chExt cx="504720" cy="778680"/>
            </a:xfrm>
          </p:grpSpPr>
          <p:sp>
            <p:nvSpPr>
              <p:cNvPr id="321" name=""/>
              <p:cNvSpPr/>
              <p:nvPr/>
            </p:nvSpPr>
            <p:spPr>
              <a:xfrm>
                <a:off x="1735200" y="60991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4120" y="57434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801800" y="6162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分析与解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3"/>
          <p:cNvSpPr/>
          <p:nvPr/>
        </p:nvSpPr>
        <p:spPr>
          <a:xfrm>
            <a:off x="108000" y="4869000"/>
            <a:ext cx="1295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7"/>
          <p:cNvSpPr/>
          <p:nvPr/>
        </p:nvSpPr>
        <p:spPr>
          <a:xfrm>
            <a:off x="919080" y="6040440"/>
            <a:ext cx="8029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我们假设这条路的长度不同，但最终的结果是相同的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7"/>
          <p:cNvSpPr/>
          <p:nvPr/>
        </p:nvSpPr>
        <p:spPr>
          <a:xfrm>
            <a:off x="3693960" y="2382840"/>
            <a:ext cx="865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89"/>
          <p:cNvSpPr/>
          <p:nvPr/>
        </p:nvSpPr>
        <p:spPr>
          <a:xfrm rot="16200000">
            <a:off x="4067280" y="693360"/>
            <a:ext cx="144360" cy="4319640"/>
          </a:xfrm>
          <a:custGeom>
            <a:avLst/>
            <a:gdLst>
              <a:gd name="textAreaLeft" fmla="*/ 0 w 144360"/>
              <a:gd name="textAreaRight" fmla="*/ 52200 w 144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92"/>
          <p:cNvSpPr/>
          <p:nvPr/>
        </p:nvSpPr>
        <p:spPr>
          <a:xfrm>
            <a:off x="2325600" y="350028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965240" y="3508200"/>
            <a:ext cx="4321440" cy="71640"/>
            <a:chOff x="1965240" y="3508200"/>
            <a:chExt cx="4321440" cy="71640"/>
          </a:xfrm>
        </p:grpSpPr>
        <p:sp>
          <p:nvSpPr>
            <p:cNvPr id="337" name="Line 90"/>
            <p:cNvSpPr/>
            <p:nvPr/>
          </p:nvSpPr>
          <p:spPr>
            <a:xfrm>
              <a:off x="1965240" y="3579840"/>
              <a:ext cx="432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91"/>
            <p:cNvSpPr/>
            <p:nvPr/>
          </p:nvSpPr>
          <p:spPr>
            <a:xfrm>
              <a:off x="1965240" y="35082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93"/>
            <p:cNvSpPr/>
            <p:nvPr/>
          </p:nvSpPr>
          <p:spPr>
            <a:xfrm>
              <a:off x="6286680" y="35082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AutoShape 94"/>
          <p:cNvSpPr/>
          <p:nvPr/>
        </p:nvSpPr>
        <p:spPr>
          <a:xfrm rot="16200000">
            <a:off x="2073960" y="3250080"/>
            <a:ext cx="144360" cy="35856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58560"/>
              <a:gd name="textAreaBottom" fmla="*/ 34920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AutoShape 89" descr=""/>
          <p:cNvPicPr/>
          <p:nvPr/>
        </p:nvPicPr>
        <p:blipFill>
          <a:blip r:embed="rId2"/>
          <a:stretch/>
        </p:blipFill>
        <p:spPr>
          <a:xfrm>
            <a:off x="1944720" y="4121280"/>
            <a:ext cx="4359240" cy="176040"/>
          </a:xfrm>
          <a:prstGeom prst="rect">
            <a:avLst/>
          </a:prstGeom>
          <a:ln w="0">
            <a:noFill/>
          </a:ln>
        </p:spPr>
      </p:pic>
      <p:pic>
        <p:nvPicPr>
          <p:cNvPr id="342" name="AutoShape 94" descr=""/>
          <p:cNvPicPr/>
          <p:nvPr/>
        </p:nvPicPr>
        <p:blipFill>
          <a:blip r:embed="rId3"/>
          <a:stretch/>
        </p:blipFill>
        <p:spPr>
          <a:xfrm>
            <a:off x="1944720" y="3638520"/>
            <a:ext cx="401760" cy="1778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87"/>
          <p:cNvSpPr/>
          <p:nvPr/>
        </p:nvSpPr>
        <p:spPr>
          <a:xfrm>
            <a:off x="1592280" y="3792600"/>
            <a:ext cx="91584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1"/>
          <p:cNvSpPr/>
          <p:nvPr/>
        </p:nvSpPr>
        <p:spPr>
          <a:xfrm>
            <a:off x="1967040" y="357336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1"/>
          <p:cNvSpPr/>
          <p:nvPr/>
        </p:nvSpPr>
        <p:spPr>
          <a:xfrm>
            <a:off x="2319480" y="35719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7"/>
          <p:cNvSpPr/>
          <p:nvPr/>
        </p:nvSpPr>
        <p:spPr>
          <a:xfrm>
            <a:off x="3706920" y="4214880"/>
            <a:ext cx="1079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91"/>
          <p:cNvSpPr/>
          <p:nvPr/>
        </p:nvSpPr>
        <p:spPr>
          <a:xfrm>
            <a:off x="2627280" y="350028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91"/>
          <p:cNvSpPr/>
          <p:nvPr/>
        </p:nvSpPr>
        <p:spPr>
          <a:xfrm>
            <a:off x="2630520" y="357660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00"/>
          <p:cNvSpPr/>
          <p:nvPr/>
        </p:nvSpPr>
        <p:spPr>
          <a:xfrm rot="16200000">
            <a:off x="2411280" y="3285720"/>
            <a:ext cx="144360" cy="287280"/>
          </a:xfrm>
          <a:custGeom>
            <a:avLst/>
            <a:gdLst>
              <a:gd name="textAreaLeft" fmla="*/ 0 w 144360"/>
              <a:gd name="textAreaRight" fmla="*/ 52200 w 144360"/>
              <a:gd name="textAreaTop" fmla="*/ 7200 h 287280"/>
              <a:gd name="textAreaBottom" fmla="*/ 2800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2349360" y="289872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351" name="AutoShape 100" descr=""/>
          <p:cNvPicPr/>
          <p:nvPr/>
        </p:nvPicPr>
        <p:blipFill>
          <a:blip r:embed="rId5"/>
          <a:stretch/>
        </p:blipFill>
        <p:spPr>
          <a:xfrm>
            <a:off x="2316240" y="3645000"/>
            <a:ext cx="323640" cy="18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87"/>
          <p:cNvSpPr/>
          <p:nvPr/>
        </p:nvSpPr>
        <p:spPr>
          <a:xfrm>
            <a:off x="2282760" y="3792600"/>
            <a:ext cx="9162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2003400" y="2892600"/>
            <a:ext cx="274680" cy="477720"/>
          </a:xfrm>
          <a:prstGeom prst="rect">
            <a:avLst/>
          </a:prstGeom>
          <a:ln w="0">
            <a:noFill/>
          </a:ln>
        </p:spPr>
      </p:pic>
      <p:sp>
        <p:nvSpPr>
          <p:cNvPr id="354" name="Oval 37"/>
          <p:cNvSpPr/>
          <p:nvPr/>
        </p:nvSpPr>
        <p:spPr>
          <a:xfrm>
            <a:off x="1908000" y="2852640"/>
            <a:ext cx="432000" cy="1297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900000" y="4724280"/>
            <a:ext cx="8244000" cy="1289160"/>
            <a:chOff x="900000" y="4724280"/>
            <a:chExt cx="8244000" cy="1289160"/>
          </a:xfrm>
        </p:grpSpPr>
        <p:sp>
          <p:nvSpPr>
            <p:cNvPr id="356" name="Text Box 95"/>
            <p:cNvSpPr/>
            <p:nvPr/>
          </p:nvSpPr>
          <p:spPr>
            <a:xfrm>
              <a:off x="900000" y="4932360"/>
              <a:ext cx="824400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① 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和        ”都在表示一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修的长度，有什么不一样呢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都是在表示一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的工作量，一个是具体数量，一个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的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作量占这条路的几分之几。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558880" y="4724280"/>
              <a:ext cx="522000" cy="778680"/>
              <a:chOff x="2558880" y="4724280"/>
              <a:chExt cx="522000" cy="778680"/>
            </a:xfrm>
          </p:grpSpPr>
          <p:sp>
            <p:nvSpPr>
              <p:cNvPr id="358" name=""/>
              <p:cNvSpPr/>
              <p:nvPr/>
            </p:nvSpPr>
            <p:spPr>
              <a:xfrm>
                <a:off x="2558880" y="5079960"/>
                <a:ext cx="522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650680" y="4724280"/>
                <a:ext cx="3726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27640" y="5143320"/>
                <a:ext cx="37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引入情境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回顾与反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8"/>
          <p:cNvSpPr/>
          <p:nvPr/>
        </p:nvSpPr>
        <p:spPr>
          <a:xfrm>
            <a:off x="214200" y="2316240"/>
            <a:ext cx="126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0"/>
          <p:cNvSpPr/>
          <p:nvPr/>
        </p:nvSpPr>
        <p:spPr>
          <a:xfrm>
            <a:off x="1000080" y="2313000"/>
            <a:ext cx="771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我们把道路假设成不同的长度，得出了相同的结果，这个结果对吗？可以怎样检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514760" y="2928960"/>
          <a:ext cx="114480" cy="21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292896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Box 8"/>
          <p:cNvSpPr/>
          <p:nvPr/>
        </p:nvSpPr>
        <p:spPr>
          <a:xfrm>
            <a:off x="214200" y="4975200"/>
            <a:ext cx="126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0"/>
          <p:cNvSpPr/>
          <p:nvPr/>
        </p:nvSpPr>
        <p:spPr>
          <a:xfrm>
            <a:off x="1000080" y="5000760"/>
            <a:ext cx="771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不管假设这条道路的长度是多少，答案都是相同的，把这条路的长度假设成是单位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在计算时是比较简便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42920" y="3000240"/>
            <a:ext cx="4573440" cy="1618560"/>
            <a:chOff x="142920" y="3000240"/>
            <a:chExt cx="4573440" cy="1618560"/>
          </a:xfrm>
        </p:grpSpPr>
        <p:sp>
          <p:nvSpPr>
            <p:cNvPr id="370" name="TextBox 12"/>
            <p:cNvSpPr/>
            <p:nvPr/>
          </p:nvSpPr>
          <p:spPr>
            <a:xfrm>
              <a:off x="142920" y="3000240"/>
              <a:ext cx="17654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14"/>
            <p:cNvSpPr/>
            <p:nvPr/>
          </p:nvSpPr>
          <p:spPr>
            <a:xfrm>
              <a:off x="357120" y="3536640"/>
              <a:ext cx="4359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看看这条路的      是不是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25"/>
            <p:cNvSpPr/>
            <p:nvPr/>
          </p:nvSpPr>
          <p:spPr>
            <a:xfrm>
              <a:off x="785880" y="4019400"/>
              <a:ext cx="3716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m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1974960" y="3367080"/>
              <a:ext cx="504720" cy="778320"/>
              <a:chOff x="1974960" y="3367080"/>
              <a:chExt cx="504720" cy="778320"/>
            </a:xfrm>
          </p:grpSpPr>
          <p:sp>
            <p:nvSpPr>
              <p:cNvPr id="374" name=""/>
              <p:cNvSpPr/>
              <p:nvPr/>
            </p:nvSpPr>
            <p:spPr>
              <a:xfrm>
                <a:off x="1974960" y="37224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063880" y="3367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41560" y="3785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1351080" y="3840120"/>
              <a:ext cx="504720" cy="778680"/>
              <a:chOff x="1351080" y="3840120"/>
              <a:chExt cx="504720" cy="778680"/>
            </a:xfrm>
          </p:grpSpPr>
          <p:sp>
            <p:nvSpPr>
              <p:cNvPr id="378" name=""/>
              <p:cNvSpPr/>
              <p:nvPr/>
            </p:nvSpPr>
            <p:spPr>
              <a:xfrm>
                <a:off x="1351080" y="4195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40000" y="38401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17680" y="4259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4572000" y="3036960"/>
            <a:ext cx="4349520" cy="1562760"/>
            <a:chOff x="4572000" y="3036960"/>
            <a:chExt cx="4349520" cy="1562760"/>
          </a:xfrm>
        </p:grpSpPr>
        <p:sp>
          <p:nvSpPr>
            <p:cNvPr id="382" name="TextBox 16"/>
            <p:cNvSpPr/>
            <p:nvPr/>
          </p:nvSpPr>
          <p:spPr>
            <a:xfrm>
              <a:off x="4572000" y="3036960"/>
              <a:ext cx="1655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20"/>
            <p:cNvSpPr/>
            <p:nvPr/>
          </p:nvSpPr>
          <p:spPr>
            <a:xfrm>
              <a:off x="4857840" y="3494160"/>
              <a:ext cx="4000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看看一队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天修的是不是全长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21"/>
            <p:cNvSpPr/>
            <p:nvPr/>
          </p:nvSpPr>
          <p:spPr>
            <a:xfrm>
              <a:off x="4572000" y="4005360"/>
              <a:ext cx="3714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5÷18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8416800" y="3322800"/>
              <a:ext cx="504720" cy="778680"/>
              <a:chOff x="8416800" y="3322800"/>
              <a:chExt cx="504720" cy="778680"/>
            </a:xfrm>
          </p:grpSpPr>
          <p:sp>
            <p:nvSpPr>
              <p:cNvPr id="386" name=""/>
              <p:cNvSpPr/>
              <p:nvPr/>
            </p:nvSpPr>
            <p:spPr>
              <a:xfrm>
                <a:off x="8416800" y="36784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505720" y="33228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483400" y="3741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074000" y="3821040"/>
              <a:ext cx="504720" cy="778680"/>
              <a:chOff x="7074000" y="3821040"/>
              <a:chExt cx="504720" cy="778680"/>
            </a:xfrm>
          </p:grpSpPr>
          <p:sp>
            <p:nvSpPr>
              <p:cNvPr id="390" name=""/>
              <p:cNvSpPr/>
              <p:nvPr/>
            </p:nvSpPr>
            <p:spPr>
              <a:xfrm>
                <a:off x="7074000" y="4176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62920" y="38210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40600" y="4240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48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